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0F21-B98B-4451-AEC9-91D800FCA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3198-C23D-4F73-9E93-DDFD17F3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9B49-B336-493F-8C91-D087BF1DD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53DC-1F8A-4A56-AA72-73EF32F86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B8DCF-AC3F-4344-A535-84240F076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BD7EF-37C1-4B4E-973C-D0E4A450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ED1D2-809C-4F40-A051-37F26DCA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0496B-2443-4D2F-AD1F-182EBC30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DD19E-40B3-4E9E-9348-3D056DE4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DD228-4184-48A2-B125-BFE0E572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27D64-B8A5-449A-A8FE-2F16C8AE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421D-5B5F-474F-956E-221EEF2F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DE012-8783-4CF0-98D5-70B3B0B1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02E0D-BCE9-4541-A9BF-FFA7611F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37AB6-F2AB-40D2-A0E7-7CAE3C6A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0107F-D2BA-44B4-8C3D-AA37A2E2D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4AC4C-6E32-4EE9-A988-D3C3FDA90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4E0C-5CFC-4012-9F27-0677732F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D38F-8A05-40AD-9B55-35DB3FEB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03C4-4DC2-4C75-B2E0-578BC2FA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9915-47CB-4608-8A47-B2B3F831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3300-E206-4CBB-9985-09BD95E2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7AED-E623-4448-AE57-1665C1D6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4895-6E4C-44BE-A914-AD3E8E81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DC8A-546D-4B18-9D03-B0A5F34ABE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FA09-09A2-471F-BB91-7A8B9E5E72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5 Themes of Geography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ade Social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s. R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uman/Environment Interac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Inte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t a t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ean a 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ing a dam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ative Inte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ilding a high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earing a fo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ing a dam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ther Examples of Human/Environment Interact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3276360" cy="3276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303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ovem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and why people and products m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move, travel and communicate da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ts are moving da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ovem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e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m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igious reas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cape w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ported from one place to an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ufactured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ural resour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ow are you connected with, and dependent upon, other regions, cultures, and people in the world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19320" y="2743200"/>
            <a:ext cx="1734840" cy="17496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733920" y="3429000"/>
            <a:ext cx="2171520" cy="2171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7162920" y="3733920"/>
            <a:ext cx="927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g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fying character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gu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untains, deserts, rainfore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ltu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ig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63868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ow do regions change over time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4019400" cy="2943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540400" y="2057400"/>
            <a:ext cx="26733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5 Themes of Geograph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/Environment Inte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ictur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pictures/clipart retrieved from Microsoft PowerPoint version 200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5 Themes of Geograph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/Environment Inte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oc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bsolu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ct Lo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lat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a place is connected to another place by technology, land or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oc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ol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itude=North/South of Equ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itude=East/West of Prime Meri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roit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titude = 42, Longitude = -8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roit-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th from War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how to get to your house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895480" y="1676520"/>
            <a:ext cx="365148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04920" y="22860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bsolut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81680" y="47242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lativ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la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inguishing characteristics of a specific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la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w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dfo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m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imal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gu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por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ig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mpare Alaska to Hawaii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3281400" cy="3733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019920" y="1828800"/>
            <a:ext cx="217152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uman/Environment Interac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 in to account at all the effects that occur when people interact with their surrou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Inte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ative Inte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 to plan and manage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23:27:30Z</dcterms:created>
  <dc:creator>Martha Ross</dc:creator>
  <dc:description/>
  <dc:language>en-US</dc:language>
  <cp:lastModifiedBy>Martha Ross</cp:lastModifiedBy>
  <dcterms:modified xsi:type="dcterms:W3CDTF">2010-10-27T23:46:10Z</dcterms:modified>
  <cp:revision>20</cp:revision>
  <dc:subject/>
  <dc:title>5 Themes of Geography</dc:title>
</cp:coreProperties>
</file>